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jpeg" ContentType="image/jpeg"/>
  <Override PartName="/ppt/media/image25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6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7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8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03FC-5719-4EA9-AD82-86D5A1624FA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FC12-8B25-4875-881A-92D51087F73A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77E6-E1AE-4A85-AAC1-2A7D6D7DE3A0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F1C5-DBE4-4878-9144-9DF85234F2B6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1AE4-21AA-4430-A2D3-29F626A0D794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B6AF-9974-4B92-A47E-895C2E037C2C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68B0-C703-46FC-920F-D212ADCBE495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5EF9-A235-4B62-9D6B-CECF9282AB82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oliennummernplatzhalter 3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5452-4FB6-4039-8125-12A3582AF14C}" type="slidenum">
              <a:rPr b="0" lang="de-DE" sz="13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8D7B2-381E-4347-A0C5-1963A5B438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F9C7-B58B-4E6D-B16F-8EB26196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8C9A3-D82D-4423-8739-7C76637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06DBB-0833-4B37-A9B8-E81C451D23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29676-1295-4876-8839-50E31AD7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8C3B27-3DE1-4BF5-BEED-11555611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51B813-3AA0-4E79-9595-4B48977C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11BF9-754C-42D8-A7F0-8A8F79F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5D9C0B-9E77-4C72-A062-81A4DAB6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05062-148D-44BC-86E2-9E1DFEFE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D9CDB-9027-40FA-8221-31B8D75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F8B8A-38C0-42C3-9F73-F611AD2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D05E4-F6CF-455F-9764-DF21F8B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52FA4-E16C-4048-B45D-A3EA5DF7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B8C2F-B4E5-4132-A63F-B9EF0319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38016-B7E5-488E-82B0-BAE768A0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A3A5FE-1A12-497C-A19B-60DC399BF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59F09-518F-47A6-A099-96EE01E11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FB82C-9901-45C0-9C8C-2243A5A54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EDDFB-28E8-44C4-8FDB-0983295E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6437A-D219-402E-9CB8-DD13B907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AC427-98DD-41EE-8115-D2A55F663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68003-782D-4EF4-B4F3-59708D2C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C6C8-3308-4A21-81BC-19823619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D8BE-590D-490A-93E9-E11A0E8329C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9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1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3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5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041F-A981-4631-B2FC-DDDC179B19F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7.jpeg"/><Relationship Id="rId3" Type="http://schemas.openxmlformats.org/officeDocument/2006/relationships/hyperlink" Target="http://alterundtrauma.de/mediathek/hoeren/es-wuehlt-zuerst-auf-aber-hinterher-wirds-ein-bisschen-leichter.html" TargetMode="External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fra.europa.eu/de/publication/2014/gewalt-frauen-erhebung-ergebnisse-auf-einen-blick" TargetMode="External"/><Relationship Id="rId2" Type="http://schemas.openxmlformats.org/officeDocument/2006/relationships/hyperlink" Target="http://www.institut-berlin.d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1CE6-1A33-415E-B6CB-0566F006965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1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3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4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7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A447-B273-4BAD-96DB-3083ABF61C1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tatistik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57160" y="149976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validen Daten zum Ausmaß sexualisierter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olizeiliche Kriminalstatistik (PKS) ist eine Anzeigestatistik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KS bildet lediglich das „Hellfeld“,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so die der Polizei bekann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wordenen Fälle ab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3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4" name="Grafik 11" descr="eisberg.jpg"/>
          <p:cNvPicPr/>
          <p:nvPr/>
        </p:nvPicPr>
        <p:blipFill>
          <a:blip r:embed="rId2"/>
          <a:stretch/>
        </p:blipFill>
        <p:spPr>
          <a:xfrm>
            <a:off x="6095880" y="2895480"/>
            <a:ext cx="2762280" cy="3391200"/>
          </a:xfrm>
          <a:prstGeom prst="rect">
            <a:avLst/>
          </a:prstGeom>
          <a:ln w="0">
            <a:noFill/>
          </a:ln>
        </p:spPr>
      </p:pic>
      <p:sp>
        <p:nvSpPr>
          <p:cNvPr id="155" name="Rechteck 12"/>
          <p:cNvSpPr/>
          <p:nvPr/>
        </p:nvSpPr>
        <p:spPr>
          <a:xfrm>
            <a:off x="6143760" y="6284880"/>
            <a:ext cx="2928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ttp://www.dadalos-d.org/frieden/images/eisberg-modell.jpg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30C8-6E90-411F-A591-B68D8D3B87F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Hellfeld:</a:t>
            </a:r>
            <a:br>
              <a:rPr sz="3200"/>
            </a:br>
            <a:r>
              <a:rPr b="0" lang="de-DE" sz="2800" spc="-1" strike="noStrike">
                <a:solidFill>
                  <a:srgbClr val="5d5d5d"/>
                </a:solidFill>
                <a:latin typeface="Arial"/>
              </a:rPr>
              <a:t>Kriminalstatistik 2014</a:t>
            </a:r>
            <a:endParaRPr b="0" lang="en-US" sz="2800" spc="-1" strike="noStrike">
              <a:solidFill>
                <a:srgbClr val="5d5d5d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8080" y="1874880"/>
          <a:ext cx="6408720" cy="4309920"/>
        </p:xfrm>
        <a:graphic>
          <a:graphicData uri="http://schemas.openxmlformats.org/drawingml/2006/table">
            <a:tbl>
              <a:tblPr/>
              <a:tblGrid>
                <a:gridCol w="1066680"/>
                <a:gridCol w="3206880"/>
                <a:gridCol w="21351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chlüssel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gruppe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4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Erfasste Fälle</a:t>
                      </a:r>
                      <a:endParaRPr b="0" lang="en-US" sz="14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1368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00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 gegen die sexuelle Selbstbestimmung, darunter: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46.98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0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traftaten gegen die sexuelle Selbstbestimmung unter Gewaltanwendung oder Ausnutzen eines Abhängigkeitsverhältnisses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2.537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1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Vergewaltigung und sexuelle Nötigung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7.345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2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onstige sexuelle Nötigung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4.62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13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exueller Missbrauch von Schutzbefohlenen pp. unter Ausnutzung einer Amtsstellung oder eines Vertrauensverhältnisses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57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310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Sexueller Missbrauch von Kindern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2.134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5760">
                      <a:solidFill>
                        <a:srgbClr val="565656"/>
                      </a:solidFill>
                    </a:lnB>
                    <a:noFill/>
                  </a:tcPr>
                </a:tc>
              </a:tr>
              <a:tr h="47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143300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Besitz/Verschaffung von Kinderpornographie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576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565656"/>
                          </a:solidFill>
                          <a:latin typeface="Arial"/>
                        </a:rPr>
                        <a:t>3.982</a:t>
                      </a:r>
                      <a:endParaRPr b="0" lang="en-US" sz="1200" spc="-1" strike="noStrike">
                        <a:solidFill>
                          <a:srgbClr val="56565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65656"/>
                      </a:solidFill>
                    </a:lnL>
                    <a:lnR w="13680">
                      <a:solidFill>
                        <a:srgbClr val="565656"/>
                      </a:solidFill>
                    </a:lnR>
                    <a:lnT w="5760">
                      <a:solidFill>
                        <a:srgbClr val="565656"/>
                      </a:solidFill>
                    </a:lnT>
                    <a:lnB w="13680">
                      <a:solidFill>
                        <a:srgbClr val="56565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Oval 94"/>
          <p:cNvSpPr/>
          <p:nvPr/>
        </p:nvSpPr>
        <p:spPr>
          <a:xfrm>
            <a:off x="5572080" y="2363760"/>
            <a:ext cx="792360" cy="287280"/>
          </a:xfrm>
          <a:prstGeom prst="ellipse">
            <a:avLst/>
          </a:prstGeom>
          <a:noFill/>
          <a:ln w="381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1" name="Oval 95"/>
          <p:cNvSpPr/>
          <p:nvPr/>
        </p:nvSpPr>
        <p:spPr>
          <a:xfrm>
            <a:off x="5565600" y="5240160"/>
            <a:ext cx="792360" cy="287640"/>
          </a:xfrm>
          <a:prstGeom prst="ellipse">
            <a:avLst/>
          </a:prstGeom>
          <a:noFill/>
          <a:ln w="381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2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4BC7-1D97-4B94-B5F5-796ED04408A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Dunkelfeld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857160" y="18903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schiedliche Definitionen, unterschiedliche Stichprobenauswahl </a:t>
            </a:r>
            <a:r>
              <a:rPr b="0" lang="de-DE" sz="20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unterschiedliche Ergebniss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unkelfeldschätzungen variieren von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:20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bis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:100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gebnisse der KFN-Opferbefrag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619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619f"/>
                </a:solidFill>
                <a:latin typeface="Arial"/>
              </a:rPr>
              <a:t>6 % der 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Befragten gaben an, bis zum 16. Lebensjahr </a:t>
            </a:r>
            <a:r>
              <a:rPr b="0" lang="de-DE" sz="1800" spc="-1" strike="noStrike">
                <a:solidFill>
                  <a:srgbClr val="00619f"/>
                </a:solidFill>
                <a:latin typeface="Arial"/>
              </a:rPr>
              <a:t>sexuellen Missbrauch 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erlebt zu haben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ssbrauch kommt in allen sozialen Gruppierungen vo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Betroffenen sind Mäd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Täter sind Männe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oßteil der Übergriffe im häuslichen Umfel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7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8" name="Rechteck 8"/>
          <p:cNvSpPr/>
          <p:nvPr/>
        </p:nvSpPr>
        <p:spPr>
          <a:xfrm>
            <a:off x="4572000" y="3643200"/>
            <a:ext cx="271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ellmann, D. F.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" descr="Symbol WC Frau 010 Weiß, 3x6 cm"/>
          <p:cNvPicPr/>
          <p:nvPr/>
        </p:nvPicPr>
        <p:blipFill>
          <a:blip r:embed="rId1"/>
          <a:stretch/>
        </p:blipFill>
        <p:spPr>
          <a:xfrm>
            <a:off x="6286680" y="4786200"/>
            <a:ext cx="42192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sp>
        <p:nvSpPr>
          <p:cNvPr id="17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1F65-5C25-40AB-ACAD-A17AD431596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1" name="Picture 2" descr="WiWaLogo_4c"/>
          <p:cNvPicPr/>
          <p:nvPr/>
        </p:nvPicPr>
        <p:blipFill>
          <a:blip r:embed="rId2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229600" cy="7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Frauen und Gewalterfahrun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857160" y="1874880"/>
            <a:ext cx="73882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ktuelle Ergebnisse einer europaweiten Studie aus dem Jahr 2014 beleg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dritte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europäische Frau hat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sexualisierte und/oder körperliche Gewalt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leb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buClr>
                <a:srgbClr val="5656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12%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aben vor ihrem 15. Lebensjahr </a:t>
            </a:r>
            <a:r>
              <a:rPr b="0" lang="de-DE" sz="2000" spc="-1" strike="noStrike">
                <a:solidFill>
                  <a:srgbClr val="00619f"/>
                </a:solidFill>
                <a:latin typeface="Arial"/>
              </a:rPr>
              <a:t>sexuellen Missbrauch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fahr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4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European Union Agency For Fundamental Rights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5" name="Picture 8" descr="Symbol WC Frau 010 Weiß, 3x6 cm"/>
          <p:cNvPicPr/>
          <p:nvPr/>
        </p:nvPicPr>
        <p:blipFill>
          <a:blip r:embed="rId3"/>
          <a:stretch/>
        </p:blipFill>
        <p:spPr>
          <a:xfrm>
            <a:off x="15717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Symbol WC Frau 010 Weiß, 3x6 cm"/>
          <p:cNvPicPr/>
          <p:nvPr/>
        </p:nvPicPr>
        <p:blipFill>
          <a:blip r:embed="rId4"/>
          <a:stretch/>
        </p:blipFill>
        <p:spPr>
          <a:xfrm>
            <a:off x="20001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Symbol WC Frau 010 Weiß, 3x6 cm"/>
          <p:cNvPicPr/>
          <p:nvPr/>
        </p:nvPicPr>
        <p:blipFill>
          <a:blip r:embed="rId5"/>
          <a:stretch/>
        </p:blipFill>
        <p:spPr>
          <a:xfrm>
            <a:off x="242892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78" name="Picture 8" descr="Symbol WC Frau 010 Weiß, 3x6 cm"/>
          <p:cNvPicPr/>
          <p:nvPr/>
        </p:nvPicPr>
        <p:blipFill>
          <a:blip r:embed="rId6"/>
          <a:stretch/>
        </p:blipFill>
        <p:spPr>
          <a:xfrm>
            <a:off x="2857680" y="4786200"/>
            <a:ext cx="421920" cy="928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Symbol WC Frau 010 Weiß, 3x6 cm"/>
          <p:cNvPicPr/>
          <p:nvPr/>
        </p:nvPicPr>
        <p:blipFill>
          <a:blip r:embed="rId7"/>
          <a:stretch/>
        </p:blipFill>
        <p:spPr>
          <a:xfrm>
            <a:off x="328608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Symbol WC Frau 010 Weiß, 3x6 cm"/>
          <p:cNvPicPr/>
          <p:nvPr/>
        </p:nvPicPr>
        <p:blipFill>
          <a:blip r:embed="rId8"/>
          <a:stretch/>
        </p:blipFill>
        <p:spPr>
          <a:xfrm>
            <a:off x="3651120" y="4773600"/>
            <a:ext cx="549360" cy="1054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Symbol WC Frau 010 Weiß, 3x6 cm"/>
          <p:cNvPicPr/>
          <p:nvPr/>
        </p:nvPicPr>
        <p:blipFill>
          <a:blip r:embed="rId9"/>
          <a:stretch/>
        </p:blipFill>
        <p:spPr>
          <a:xfrm>
            <a:off x="414324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Symbol WC Frau 010 Weiß, 3x6 cm"/>
          <p:cNvPicPr/>
          <p:nvPr/>
        </p:nvPicPr>
        <p:blipFill>
          <a:blip r:embed="rId10"/>
          <a:stretch/>
        </p:blipFill>
        <p:spPr>
          <a:xfrm>
            <a:off x="457200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Symbol WC Frau 010 Weiß, 3x6 cm"/>
          <p:cNvPicPr/>
          <p:nvPr/>
        </p:nvPicPr>
        <p:blipFill>
          <a:blip r:embed="rId11"/>
          <a:stretch/>
        </p:blipFill>
        <p:spPr>
          <a:xfrm>
            <a:off x="500076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84" name="Picture 8" descr="Symbol WC Frau 010 Weiß, 3x6 cm"/>
          <p:cNvPicPr/>
          <p:nvPr/>
        </p:nvPicPr>
        <p:blipFill>
          <a:blip r:embed="rId12"/>
          <a:stretch/>
        </p:blipFill>
        <p:spPr>
          <a:xfrm>
            <a:off x="542916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Symbol WC Frau 010 Weiß, 3x6 cm"/>
          <p:cNvPicPr/>
          <p:nvPr/>
        </p:nvPicPr>
        <p:blipFill>
          <a:blip r:embed="rId13"/>
          <a:stretch/>
        </p:blipFill>
        <p:spPr>
          <a:xfrm>
            <a:off x="585792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Symbol WC Frau 010 Weiß, 3x6 cm"/>
          <p:cNvPicPr/>
          <p:nvPr/>
        </p:nvPicPr>
        <p:blipFill>
          <a:blip r:embed="rId14"/>
          <a:stretch/>
        </p:blipFill>
        <p:spPr>
          <a:xfrm>
            <a:off x="671508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Symbol WC Frau 010 Weiß, 3x6 cm"/>
          <p:cNvPicPr/>
          <p:nvPr/>
        </p:nvPicPr>
        <p:blipFill>
          <a:blip r:embed="rId15"/>
          <a:stretch/>
        </p:blipFill>
        <p:spPr>
          <a:xfrm>
            <a:off x="757224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pic>
        <p:nvPicPr>
          <p:cNvPr id="188" name="Picture 8" descr="Symbol WC Frau 010 Weiß, 3x6 cm"/>
          <p:cNvPicPr/>
          <p:nvPr/>
        </p:nvPicPr>
        <p:blipFill>
          <a:blip r:embed="rId16"/>
          <a:stretch/>
        </p:blipFill>
        <p:spPr>
          <a:xfrm>
            <a:off x="7143840" y="4786200"/>
            <a:ext cx="422280" cy="928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Symbol WC Frau 010 Weiß, 3x6 cm"/>
          <p:cNvPicPr/>
          <p:nvPr/>
        </p:nvPicPr>
        <p:blipFill>
          <a:blip r:embed="rId17"/>
          <a:stretch/>
        </p:blipFill>
        <p:spPr>
          <a:xfrm>
            <a:off x="1143000" y="4786200"/>
            <a:ext cx="422280" cy="92880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ffc000"/>
            </a:outerShdw>
          </a:effectLst>
        </p:spPr>
      </p:pic>
      <p:sp>
        <p:nvSpPr>
          <p:cNvPr id="190" name="Textfeld 24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86F00-2E8D-4074-91C3-A50A53CADCA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Kriegsgewalt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94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5" name="Picture 8" descr="Zweiter Weltkrieg, dpa"/>
          <p:cNvPicPr/>
          <p:nvPr/>
        </p:nvPicPr>
        <p:blipFill>
          <a:blip r:embed="rId2"/>
          <a:stretch/>
        </p:blipFill>
        <p:spPr>
          <a:xfrm>
            <a:off x="365040" y="2000160"/>
            <a:ext cx="3492720" cy="314352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10"/>
          <p:cNvSpPr/>
          <p:nvPr/>
        </p:nvSpPr>
        <p:spPr>
          <a:xfrm>
            <a:off x="285840" y="5143680"/>
            <a:ext cx="235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sueddeutsche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7" name="Rechteck 12"/>
          <p:cNvSpPr/>
          <p:nvPr/>
        </p:nvSpPr>
        <p:spPr>
          <a:xfrm>
            <a:off x="4000680" y="1928880"/>
            <a:ext cx="45720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Mind. 860.000 Frauen wurden zu Kriegsende und in der Nachkriegszeit (zwischen 1944  und 1955) von alliierten Soldaten in ganz Deutschland vergewaltig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Mind. 190.000 davon durch amerikanische Armeeangehörige, andere durch sowjetische, britische, belgische oder französische Soldat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In allen Ländern in denen deutsche Soldaten stationiert waren, kam es zu Vergewaltigung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Zwangsprostitution und Verschleppung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Viele heute alte Frauen wurden selbst Opfer sexualisierter Gewalt oder mussten diese bei anderen Frauen und Mädchen beobacht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8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Gebhardt, M. (2015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DC58-5B5F-45A6-AFC5-CB1DCE979C7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0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Flucht und Vertreib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pic>
        <p:nvPicPr>
          <p:cNvPr id="202" name="Picture 4" descr="http://www.ndr.de/geschichte/chronologie/nszeitundkrieg/fluechtendefrauen100_v-contentgross.jpg"/>
          <p:cNvPicPr/>
          <p:nvPr/>
        </p:nvPicPr>
        <p:blipFill>
          <a:blip r:embed="rId2"/>
          <a:stretch/>
        </p:blipFill>
        <p:spPr>
          <a:xfrm>
            <a:off x="2328840" y="1560600"/>
            <a:ext cx="4503600" cy="2536560"/>
          </a:xfrm>
          <a:prstGeom prst="rect">
            <a:avLst/>
          </a:prstGeom>
          <a:ln w="0">
            <a:noFill/>
          </a:ln>
        </p:spPr>
      </p:pic>
      <p:sp>
        <p:nvSpPr>
          <p:cNvPr id="203" name="Rechteck 3"/>
          <p:cNvSpPr/>
          <p:nvPr/>
        </p:nvSpPr>
        <p:spPr>
          <a:xfrm>
            <a:off x="2176560" y="4255920"/>
            <a:ext cx="482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picture-alliance / akg Fotograf: / RIA Nowosti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4" name="Textfeld 6"/>
          <p:cNvSpPr/>
          <p:nvPr/>
        </p:nvSpPr>
        <p:spPr>
          <a:xfrm>
            <a:off x="1571760" y="4570560"/>
            <a:ext cx="61434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12 bis 14 Millionen Menschen mussten im Kontext des Zweiten Weltkriegs ihre Heimat verlass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roßteil waren Frauen und Kinder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182520" indent="-18252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Mädchen und Frauen waren Vergewaltigungen schutzlos ausgeliefer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5" name="Textfeld 9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9CF35-AB36-42C9-97A7-B49B3C281D9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0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44840"/>
            <a:ext cx="82296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ist ein Trauma und was passiert in einer traumatischen Situatio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9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207E-1049-4AD7-8BD7-8A8C9F55903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1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elisches Trauma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871560" y="1891800"/>
            <a:ext cx="777240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19f"/>
                </a:solidFill>
                <a:latin typeface="Arial"/>
              </a:rPr>
              <a:t>Extremsituation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, ...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ür die es keine angemessene Vorbereitung gib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Arial"/>
              </a:rPr>
              <a:t>die alle zur Verfügung stehenden Bewältigungsmechanismen überforder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weder Flucht noch Gegenwehr zulässt bzw. ermöglich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mit Gefühlen der Ohnmacht, Todesangst und des Ausgeliefertseins einhergeh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e eine nicht-integrierbare Erfahrung und eine existenzielle Bedrohung darstel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5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uber, M. 2009, Herman, J. 2006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76320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che Erfahrun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1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A50C-3024-41EF-84EF-18B6ED167E85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18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2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1" name="Picture 2" descr="https://encrypted-tbn1.gstatic.com/images?q=tbn:ANd9GcS7ARKMacaLawH9fBahWTryXrBqiLi1TNeMqkvO3xuVRizO9XuN"/>
          <p:cNvPicPr/>
          <p:nvPr/>
        </p:nvPicPr>
        <p:blipFill>
          <a:blip r:embed="rId2"/>
          <a:stretch/>
        </p:blipFill>
        <p:spPr>
          <a:xfrm>
            <a:off x="571680" y="1857240"/>
            <a:ext cx="3238200" cy="1409760"/>
          </a:xfrm>
          <a:prstGeom prst="rect">
            <a:avLst/>
          </a:prstGeom>
          <a:ln w="0">
            <a:noFill/>
          </a:ln>
        </p:spPr>
      </p:pic>
      <p:sp>
        <p:nvSpPr>
          <p:cNvPr id="222" name="Textfeld 18"/>
          <p:cNvSpPr/>
          <p:nvPr/>
        </p:nvSpPr>
        <p:spPr>
          <a:xfrm>
            <a:off x="500040" y="3284640"/>
            <a:ext cx="200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rundschau-online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3" name="Picture 6" descr="Die Trauer-Danksagung am PC erstellen"/>
          <p:cNvPicPr/>
          <p:nvPr/>
        </p:nvPicPr>
        <p:blipFill>
          <a:blip r:embed="rId3"/>
          <a:stretch/>
        </p:blipFill>
        <p:spPr>
          <a:xfrm>
            <a:off x="6786720" y="1857240"/>
            <a:ext cx="1857240" cy="1231920"/>
          </a:xfrm>
          <a:prstGeom prst="rect">
            <a:avLst/>
          </a:prstGeom>
          <a:ln w="0">
            <a:noFill/>
          </a:ln>
        </p:spPr>
      </p:pic>
      <p:sp>
        <p:nvSpPr>
          <p:cNvPr id="224" name="Textfeld 23"/>
          <p:cNvSpPr/>
          <p:nvPr/>
        </p:nvSpPr>
        <p:spPr>
          <a:xfrm>
            <a:off x="6715080" y="3071880"/>
            <a:ext cx="1785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Bild: thgweb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25" name="Picture 13" descr="C:\Users\Wilwasser\AppData\Local\Microsoft\Windows\Temporary Internet Files\Content.IE5\89GCAT46\Modern-Doctor-1362384904_18[1].jpg"/>
          <p:cNvPicPr/>
          <p:nvPr/>
        </p:nvPicPr>
        <p:blipFill>
          <a:blip r:embed="rId4"/>
          <a:stretch/>
        </p:blipFill>
        <p:spPr>
          <a:xfrm>
            <a:off x="1357200" y="4143240"/>
            <a:ext cx="2571840" cy="1714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C:\Users\Wilwasser\AppData\Local\Microsoft\Windows\Temporary Internet Files\Content.IE5\LOE784WY\5355109420_7eea0d9d19_z[1].jpg"/>
          <p:cNvPicPr/>
          <p:nvPr/>
        </p:nvPicPr>
        <p:blipFill>
          <a:blip r:embed="rId5"/>
          <a:stretch/>
        </p:blipFill>
        <p:spPr>
          <a:xfrm>
            <a:off x="4214880" y="1857240"/>
            <a:ext cx="1950840" cy="1301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8" descr="C:\Users\Wilwasser\AppData\Local\Microsoft\Windows\Temporary Internet Files\Content.IE5\AE9N53VP\German-armed-forces-Bundeswehr[1].JPG"/>
          <p:cNvPicPr/>
          <p:nvPr/>
        </p:nvPicPr>
        <p:blipFill>
          <a:blip r:embed="rId6"/>
          <a:stretch/>
        </p:blipFill>
        <p:spPr>
          <a:xfrm>
            <a:off x="5286240" y="4143240"/>
            <a:ext cx="2428920" cy="1587600"/>
          </a:xfrm>
          <a:prstGeom prst="rect">
            <a:avLst/>
          </a:prstGeom>
          <a:ln w="0">
            <a:noFill/>
          </a:ln>
        </p:spPr>
      </p:pic>
      <p:sp>
        <p:nvSpPr>
          <p:cNvPr id="228" name="Textfeld 15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C1D1-2F20-4D30-9C0A-418974F4C81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3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85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elisches Trauma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950040" y="2532600"/>
            <a:ext cx="1985400" cy="88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36db5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drohlicher Situatio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716360" y="2637000"/>
            <a:ext cx="338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4" name="Oval 4"/>
          <p:cNvSpPr/>
          <p:nvPr/>
        </p:nvSpPr>
        <p:spPr>
          <a:xfrm>
            <a:off x="5581800" y="2349360"/>
            <a:ext cx="2806560" cy="1252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dividuellen Bewältigungs-möglichkei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2987640" y="17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Diskrepanzerlebnis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6" name="AutoShape 28"/>
          <p:cNvSpPr/>
          <p:nvPr/>
        </p:nvSpPr>
        <p:spPr>
          <a:xfrm>
            <a:off x="3564000" y="2924280"/>
            <a:ext cx="1727280" cy="214200"/>
          </a:xfrm>
          <a:prstGeom prst="leftRightArrow">
            <a:avLst>
              <a:gd name="adj1" fmla="val 50000"/>
              <a:gd name="adj2" fmla="val 104308"/>
            </a:avLst>
          </a:prstGeom>
          <a:solidFill>
            <a:srgbClr val="006cb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3708360" y="31417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zwis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2411280" y="38606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65656"/>
                </a:solidFill>
                <a:latin typeface="Arial"/>
              </a:rPr>
              <a:t>Begleitet von Gefühlen der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324000" y="5300640"/>
            <a:ext cx="151128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36db5"/>
                </a:solidFill>
                <a:latin typeface="Arial"/>
              </a:rPr>
              <a:t>Hilf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627280" y="5300640"/>
            <a:ext cx="151128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19f"/>
                </a:solidFill>
                <a:latin typeface="Arial"/>
                <a:ea typeface="Arial"/>
              </a:rPr>
              <a:t>Ohnmach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4572000" y="5300640"/>
            <a:ext cx="1798560" cy="100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36db5"/>
                </a:solidFill>
                <a:latin typeface="Arial"/>
              </a:rPr>
              <a:t>Schutz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6659640" y="5300640"/>
            <a:ext cx="2089080" cy="1058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Erschütterung de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Selbst- und Welt-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cb0"/>
                </a:solidFill>
                <a:latin typeface="Arial"/>
              </a:rPr>
              <a:t>verständnisse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3" name="Line 29"/>
          <p:cNvSpPr/>
          <p:nvPr/>
        </p:nvSpPr>
        <p:spPr>
          <a:xfrm flipH="1">
            <a:off x="1618920" y="4438800"/>
            <a:ext cx="1081080" cy="50292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4" name="Line 30"/>
          <p:cNvSpPr/>
          <p:nvPr/>
        </p:nvSpPr>
        <p:spPr>
          <a:xfrm flipH="1">
            <a:off x="3347640" y="4437000"/>
            <a:ext cx="28908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5" name="Line 31"/>
          <p:cNvSpPr/>
          <p:nvPr/>
        </p:nvSpPr>
        <p:spPr>
          <a:xfrm>
            <a:off x="5076720" y="4437000"/>
            <a:ext cx="14292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6" name="Line 32"/>
          <p:cNvSpPr/>
          <p:nvPr/>
        </p:nvSpPr>
        <p:spPr>
          <a:xfrm>
            <a:off x="6300720" y="4437000"/>
            <a:ext cx="792360" cy="576360"/>
          </a:xfrm>
          <a:prstGeom prst="line">
            <a:avLst/>
          </a:prstGeom>
          <a:ln w="38160">
            <a:solidFill>
              <a:srgbClr val="00619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47" name="Textfeld 21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E1544-CB09-48B9-B963-7297C911396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9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5"/>
          <p:cNvSpPr/>
          <p:nvPr/>
        </p:nvSpPr>
        <p:spPr>
          <a:xfrm>
            <a:off x="433440" y="1581120"/>
            <a:ext cx="828180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Einführung in das Thema: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„</a:t>
            </a: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Sexualisierte Gewalt und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Traumatisierung“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2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8E21-AFD3-4D59-8E89-301EDA52CF0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4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 und Traumatisi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00280" y="220464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onotraumatisierung: Ein einmaliges traumatisches Ereigni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omplextraumatisierung: Lang anhaltende wiederholte Traumat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x. Gewalt in der Kindheit und im häuslichen Bereich sind vo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lem Komplextraumatisie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kennzeichnet durch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rukturelle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derholungen nicht integrierbarer Erfah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npassung an Gewaltstruktur und -kontex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sprägung von Bewältigungsstrategi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2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E979-E96C-41CD-83B5-A2C13497A13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5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 und Hirnforsch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pic>
        <p:nvPicPr>
          <p:cNvPr id="256" name="Picture 5" descr="HBKKVAa8_Pxgen_r_1100xA"/>
          <p:cNvPicPr/>
          <p:nvPr/>
        </p:nvPicPr>
        <p:blipFill>
          <a:blip r:embed="rId2"/>
          <a:stretch/>
        </p:blipFill>
        <p:spPr>
          <a:xfrm>
            <a:off x="1203480" y="1981080"/>
            <a:ext cx="6797520" cy="4249800"/>
          </a:xfrm>
          <a:prstGeom prst="rect">
            <a:avLst/>
          </a:prstGeom>
          <a:ln w="0">
            <a:noFill/>
          </a:ln>
        </p:spPr>
      </p:pic>
      <p:sp>
        <p:nvSpPr>
          <p:cNvPr id="257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D36FD-50B8-49DD-975C-B6BAEB7A384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5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ie nehmen wir Informationen auf und verarbeiten sie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213372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tegration von Informatio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1433520" y="2711520"/>
            <a:ext cx="6264360" cy="914400"/>
          </a:xfrm>
          <a:prstGeom prst="pie">
            <a:avLst/>
          </a:prstGeom>
          <a:solidFill>
            <a:srgbClr val="00619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611280" y="2765520"/>
            <a:ext cx="396720" cy="1218960"/>
          </a:xfrm>
          <a:custGeom>
            <a:avLst/>
            <a:gdLst>
              <a:gd name="textAreaLeft" fmla="*/ 52920 w 396720"/>
              <a:gd name="textAreaRight" fmla="*/ 343800 w 396720"/>
              <a:gd name="textAreaTop" fmla="*/ 245520 h 1218960"/>
              <a:gd name="textAreaBottom" fmla="*/ 89460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11" stAng="-5400000" swAng="-5400000"/>
                <a:lnTo>
                  <a:pt x="0" y="11496"/>
                </a:lnTo>
                <a:arcTo wR="21600" hR="8711" stAng="10800000" swAng="-2925578"/>
                <a:lnTo>
                  <a:pt x="14400" y="21102"/>
                </a:lnTo>
                <a:lnTo>
                  <a:pt x="21600" y="18815"/>
                </a:lnTo>
                <a:lnTo>
                  <a:pt x="14400" y="15531"/>
                </a:lnTo>
                <a:lnTo>
                  <a:pt x="14400" y="16924"/>
                </a:lnTo>
                <a:arcTo wR="21600" hR="8711" stAng="7874422" swAng="2701386"/>
                <a:lnTo>
                  <a:pt x="278" y="10103"/>
                </a:lnTo>
                <a:arcTo wR="21600" hR="8711" stAng="-10575808" swAng="5175808"/>
                <a:close/>
              </a:path>
              <a:path fill="darkenLess" w="21600" h="21600">
                <a:moveTo>
                  <a:pt x="21600" y="0"/>
                </a:moveTo>
                <a:arcTo wR="21600" hR="8711" stAng="-5400000" swAng="-5400000"/>
                <a:lnTo>
                  <a:pt x="0" y="8711"/>
                </a:lnTo>
                <a:arcTo wR="21600" hR="8711" stAng="10800000" swAng="-224192"/>
                <a:lnTo>
                  <a:pt x="278" y="10103"/>
                </a:lnTo>
                <a:arcTo wR="21600" hR="8711" stAng="-10575808" swAng="5175808"/>
                <a:close/>
              </a:path>
            </a:pathLst>
          </a:cu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64" name="Picture 7" descr="alarmanlage"/>
          <p:cNvPicPr/>
          <p:nvPr/>
        </p:nvPicPr>
        <p:blipFill>
          <a:blip r:embed="rId2"/>
          <a:stretch/>
        </p:blipFill>
        <p:spPr>
          <a:xfrm>
            <a:off x="1263600" y="342900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1069200" y="4513320"/>
            <a:ext cx="1241280" cy="5202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Amygdala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„</a:t>
            </a: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Alarmanlage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6" name="AutoShape 9"/>
          <p:cNvSpPr/>
          <p:nvPr/>
        </p:nvSpPr>
        <p:spPr>
          <a:xfrm>
            <a:off x="2916360" y="379728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7" name="AutoShape 10"/>
          <p:cNvSpPr/>
          <p:nvPr/>
        </p:nvSpPr>
        <p:spPr>
          <a:xfrm flipH="1">
            <a:off x="4132440" y="3500280"/>
            <a:ext cx="863280" cy="720720"/>
          </a:xfrm>
          <a:prstGeom prst="hexagon">
            <a:avLst>
              <a:gd name="adj" fmla="val 29945"/>
              <a:gd name="vf" fmla="val 115470"/>
            </a:avLst>
          </a:prstGeom>
          <a:solidFill>
            <a:srgbClr val="00619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68" name="Picture 11" descr="library"/>
          <p:cNvPicPr/>
          <p:nvPr/>
        </p:nvPicPr>
        <p:blipFill>
          <a:blip r:embed="rId3"/>
          <a:stretch/>
        </p:blipFill>
        <p:spPr>
          <a:xfrm>
            <a:off x="3956040" y="4292640"/>
            <a:ext cx="1224000" cy="7556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12"/>
          <p:cNvSpPr/>
          <p:nvPr/>
        </p:nvSpPr>
        <p:spPr>
          <a:xfrm>
            <a:off x="3952440" y="5234040"/>
            <a:ext cx="1229400" cy="73332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Hippocampus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„</a:t>
            </a: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Bibliothek“, 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Raum und Z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0" name="AutoShape 13"/>
          <p:cNvSpPr/>
          <p:nvPr/>
        </p:nvSpPr>
        <p:spPr>
          <a:xfrm>
            <a:off x="5854680" y="3716280"/>
            <a:ext cx="719280" cy="125640"/>
          </a:xfrm>
          <a:prstGeom prst="leftArrow">
            <a:avLst>
              <a:gd name="adj1" fmla="val 50000"/>
              <a:gd name="adj2" fmla="val 143123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1" name="AutoShape 14"/>
          <p:cNvSpPr/>
          <p:nvPr/>
        </p:nvSpPr>
        <p:spPr>
          <a:xfrm>
            <a:off x="5872320" y="391464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2" name="Picture 15" descr="magnet-kopf-rot-rot-werbeartikel"/>
          <p:cNvPicPr/>
          <p:nvPr/>
        </p:nvPicPr>
        <p:blipFill>
          <a:blip r:embed="rId4"/>
          <a:stretch/>
        </p:blipFill>
        <p:spPr>
          <a:xfrm>
            <a:off x="6907320" y="3367080"/>
            <a:ext cx="1090440" cy="109080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16"/>
          <p:cNvSpPr/>
          <p:nvPr/>
        </p:nvSpPr>
        <p:spPr>
          <a:xfrm>
            <a:off x="6446880" y="4707000"/>
            <a:ext cx="2016000" cy="89568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Calibri"/>
              </a:rPr>
              <a:t>Neokortex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Calibri"/>
              </a:rPr>
              <a:t>Reflexion, Ich-Erleben,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36db5"/>
                </a:solidFill>
                <a:latin typeface="Calibri"/>
              </a:rPr>
              <a:t>Versprachlichung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74" name="Textfeld 20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5" name="Verarbeitung von Informationen.m4a" descr=""/>
          <p:cNvPicPr/>
          <p:nvPr/>
        </p:nvPicPr>
        <p:blipFill>
          <a:blip r:embed="rId5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00F0-A3B7-4511-AE2E-07C315C118A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7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elungene Informationsverarbeit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1042920" y="3860640"/>
            <a:ext cx="216000" cy="7923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1332000" y="4270320"/>
            <a:ext cx="215640" cy="3891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258920" y="4437000"/>
            <a:ext cx="71280" cy="2174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3" name="Line 10"/>
          <p:cNvSpPr/>
          <p:nvPr/>
        </p:nvSpPr>
        <p:spPr>
          <a:xfrm>
            <a:off x="1031760" y="4724280"/>
            <a:ext cx="7705800" cy="0"/>
          </a:xfrm>
          <a:prstGeom prst="line">
            <a:avLst/>
          </a:prstGeom>
          <a:ln w="7632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4" name="Rectangle 24"/>
          <p:cNvSpPr/>
          <p:nvPr/>
        </p:nvSpPr>
        <p:spPr>
          <a:xfrm>
            <a:off x="5219640" y="4199040"/>
            <a:ext cx="504720" cy="473040"/>
          </a:xfrm>
          <a:prstGeom prst="rect">
            <a:avLst/>
          </a:prstGeom>
          <a:solidFill>
            <a:srgbClr val="006cb0"/>
          </a:solidFill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5" name="Text Box 25"/>
          <p:cNvSpPr/>
          <p:nvPr/>
        </p:nvSpPr>
        <p:spPr>
          <a:xfrm>
            <a:off x="8089920" y="49244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Zukunf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6" name="Text Box 26"/>
          <p:cNvSpPr/>
          <p:nvPr/>
        </p:nvSpPr>
        <p:spPr>
          <a:xfrm>
            <a:off x="468360" y="49514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Vergangenh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7" name="Text Box 27"/>
          <p:cNvSpPr/>
          <p:nvPr/>
        </p:nvSpPr>
        <p:spPr>
          <a:xfrm>
            <a:off x="4683240" y="49118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Gegenwar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88" name="Text Box 28"/>
          <p:cNvSpPr/>
          <p:nvPr/>
        </p:nvSpPr>
        <p:spPr>
          <a:xfrm>
            <a:off x="539640" y="5384880"/>
            <a:ext cx="129708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lebnisse, die verarbeitet sind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89" name="Picture 2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2">
            <a:grayscl/>
          </a:blip>
          <a:stretch/>
        </p:blipFill>
        <p:spPr>
          <a:xfrm>
            <a:off x="5256360" y="356724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290" name="Textfeld 33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1" name="Gelungene Informationsverarbeitung.m4a" descr=""/>
          <p:cNvPicPr/>
          <p:nvPr/>
        </p:nvPicPr>
        <p:blipFill>
          <a:blip r:embed="rId3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A8D6-8027-4E2C-818B-E512D523CD4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i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684360" y="1988640"/>
            <a:ext cx="77724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ntegration von Informatio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1692360" y="2428920"/>
            <a:ext cx="6264360" cy="914400"/>
          </a:xfrm>
          <a:prstGeom prst="pie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684360" y="3357720"/>
            <a:ext cx="323640" cy="641160"/>
          </a:xfrm>
          <a:custGeom>
            <a:avLst/>
            <a:gdLst>
              <a:gd name="textAreaLeft" fmla="*/ 43200 w 323640"/>
              <a:gd name="textAreaRight" fmla="*/ 280440 w 323640"/>
              <a:gd name="textAreaTop" fmla="*/ 111960 h 641160"/>
              <a:gd name="textAreaBottom" fmla="*/ 464760 h 641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299" name="Picture 7" descr="alarmanlage"/>
          <p:cNvPicPr/>
          <p:nvPr/>
        </p:nvPicPr>
        <p:blipFill>
          <a:blip r:embed="rId2"/>
          <a:stretch/>
        </p:blipFill>
        <p:spPr>
          <a:xfrm>
            <a:off x="1258920" y="3071880"/>
            <a:ext cx="841320" cy="841320"/>
          </a:xfrm>
          <a:prstGeom prst="rect">
            <a:avLst/>
          </a:prstGeom>
          <a:ln w="0">
            <a:noFill/>
          </a:ln>
        </p:spPr>
      </p:pic>
      <p:sp>
        <p:nvSpPr>
          <p:cNvPr id="300" name="Text Box 8"/>
          <p:cNvSpPr/>
          <p:nvPr/>
        </p:nvSpPr>
        <p:spPr>
          <a:xfrm>
            <a:off x="1046520" y="4000680"/>
            <a:ext cx="1299240" cy="5202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Amygdala: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„</a:t>
            </a: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Alarmanlage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1" name="AutoShape 9"/>
          <p:cNvSpPr/>
          <p:nvPr/>
        </p:nvSpPr>
        <p:spPr>
          <a:xfrm>
            <a:off x="2916360" y="3643200"/>
            <a:ext cx="718920" cy="142920"/>
          </a:xfrm>
          <a:prstGeom prst="rightArrow">
            <a:avLst>
              <a:gd name="adj1" fmla="val 50000"/>
              <a:gd name="adj2" fmla="val 125756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2" name="Picture 11" descr="library"/>
          <p:cNvPicPr/>
          <p:nvPr/>
        </p:nvPicPr>
        <p:blipFill>
          <a:blip r:embed="rId3"/>
          <a:stretch/>
        </p:blipFill>
        <p:spPr>
          <a:xfrm>
            <a:off x="4067280" y="4286160"/>
            <a:ext cx="1224000" cy="755640"/>
          </a:xfrm>
          <a:prstGeom prst="rect">
            <a:avLst/>
          </a:prstGeom>
          <a:ln w="0">
            <a:noFill/>
          </a:ln>
        </p:spPr>
      </p:pic>
      <p:sp>
        <p:nvSpPr>
          <p:cNvPr id="303" name="Text Box 12"/>
          <p:cNvSpPr/>
          <p:nvPr/>
        </p:nvSpPr>
        <p:spPr>
          <a:xfrm>
            <a:off x="3780000" y="5214960"/>
            <a:ext cx="2412720" cy="45900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Hippocampus:„Bibliothek“, 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Raum und Zeit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4" name="AutoShape 13"/>
          <p:cNvSpPr/>
          <p:nvPr/>
        </p:nvSpPr>
        <p:spPr>
          <a:xfrm>
            <a:off x="6084720" y="3714840"/>
            <a:ext cx="719280" cy="125280"/>
          </a:xfrm>
          <a:prstGeom prst="leftArrow">
            <a:avLst>
              <a:gd name="adj1" fmla="val 50000"/>
              <a:gd name="adj2" fmla="val 143534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5" name="AutoShape 14"/>
          <p:cNvSpPr/>
          <p:nvPr/>
        </p:nvSpPr>
        <p:spPr>
          <a:xfrm>
            <a:off x="6084720" y="3857760"/>
            <a:ext cx="719280" cy="142920"/>
          </a:xfrm>
          <a:prstGeom prst="rightArrow">
            <a:avLst>
              <a:gd name="adj1" fmla="val 50000"/>
              <a:gd name="adj2" fmla="val 125819"/>
            </a:avLst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6" name="Picture 15" descr="magnet-kopf-rot-rot-werbeartikel"/>
          <p:cNvPicPr/>
          <p:nvPr/>
        </p:nvPicPr>
        <p:blipFill>
          <a:blip r:embed="rId4"/>
          <a:stretch/>
        </p:blipFill>
        <p:spPr>
          <a:xfrm>
            <a:off x="7451640" y="3429000"/>
            <a:ext cx="1090800" cy="109044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6"/>
          <p:cNvSpPr/>
          <p:nvPr/>
        </p:nvSpPr>
        <p:spPr>
          <a:xfrm>
            <a:off x="6443640" y="5214960"/>
            <a:ext cx="2521080" cy="612720"/>
          </a:xfrm>
          <a:prstGeom prst="rect">
            <a:avLst/>
          </a:prstGeom>
          <a:noFill/>
          <a:ln w="9360">
            <a:solidFill>
              <a:srgbClr val="036d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Neokortex: Reflexion,Ich-Erleben,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 algn="just"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36db5"/>
                </a:solidFill>
                <a:latin typeface="Arial"/>
              </a:rPr>
              <a:t>Versprachlich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08" name="Picture 19" descr="Blitz"/>
          <p:cNvPicPr/>
          <p:nvPr/>
        </p:nvPicPr>
        <p:blipFill>
          <a:blip r:embed="rId5"/>
          <a:stretch/>
        </p:blipFill>
        <p:spPr>
          <a:xfrm rot="17593800">
            <a:off x="740520" y="2474280"/>
            <a:ext cx="255600" cy="946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309" name="AutoShape 20"/>
          <p:cNvSpPr/>
          <p:nvPr/>
        </p:nvSpPr>
        <p:spPr>
          <a:xfrm>
            <a:off x="1619280" y="4570560"/>
            <a:ext cx="71280" cy="358560"/>
          </a:xfrm>
          <a:prstGeom prst="downArrow">
            <a:avLst>
              <a:gd name="adj1" fmla="val 50000"/>
              <a:gd name="adj2" fmla="val 125758"/>
            </a:avLst>
          </a:prstGeom>
          <a:solidFill>
            <a:srgbClr val="a50021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0" name="Oval 21"/>
          <p:cNvSpPr/>
          <p:nvPr/>
        </p:nvSpPr>
        <p:spPr>
          <a:xfrm>
            <a:off x="395280" y="4929120"/>
            <a:ext cx="2448000" cy="1225440"/>
          </a:xfrm>
          <a:prstGeom prst="ellipse">
            <a:avLst/>
          </a:prstGeom>
          <a:noFill/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1" name="Rectangle 22"/>
          <p:cNvSpPr/>
          <p:nvPr/>
        </p:nvSpPr>
        <p:spPr>
          <a:xfrm>
            <a:off x="754200" y="5072040"/>
            <a:ext cx="230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Notfall-/ Stressreaktion: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Kampf oder Flucht sind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folglos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   </a:t>
            </a: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Totstellreflex / Starr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grpSp>
        <p:nvGrpSpPr>
          <p:cNvPr id="312" name="Group 23"/>
          <p:cNvGrpSpPr/>
          <p:nvPr/>
        </p:nvGrpSpPr>
        <p:grpSpPr>
          <a:xfrm>
            <a:off x="4140360" y="3571560"/>
            <a:ext cx="1223640" cy="721080"/>
            <a:chOff x="4140360" y="3571560"/>
            <a:chExt cx="1223640" cy="721080"/>
          </a:xfrm>
        </p:grpSpPr>
        <p:sp>
          <p:nvSpPr>
            <p:cNvPr id="313" name="AutoShape 24"/>
            <p:cNvSpPr/>
            <p:nvPr/>
          </p:nvSpPr>
          <p:spPr>
            <a:xfrm flipH="1">
              <a:off x="4336200" y="3571920"/>
              <a:ext cx="862920" cy="720720"/>
            </a:xfrm>
            <a:prstGeom prst="hexagon">
              <a:avLst>
                <a:gd name="adj" fmla="val 29933"/>
                <a:gd name="vf" fmla="val 115470"/>
              </a:avLst>
            </a:prstGeom>
            <a:solidFill>
              <a:srgbClr val="f0eff1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65656"/>
                </a:solidFill>
                <a:latin typeface="Arial"/>
              </a:endParaRPr>
            </a:p>
          </p:txBody>
        </p:sp>
        <p:sp>
          <p:nvSpPr>
            <p:cNvPr id="314" name="Line 25"/>
            <p:cNvSpPr/>
            <p:nvPr/>
          </p:nvSpPr>
          <p:spPr>
            <a:xfrm flipV="1">
              <a:off x="4140360" y="3571560"/>
              <a:ext cx="1223640" cy="718920"/>
            </a:xfrm>
            <a:prstGeom prst="line">
              <a:avLst/>
            </a:prstGeom>
            <a:ln w="7632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65656"/>
                </a:solidFill>
                <a:latin typeface="Arial"/>
              </a:endParaRPr>
            </a:p>
          </p:txBody>
        </p:sp>
      </p:grpSp>
      <p:sp>
        <p:nvSpPr>
          <p:cNvPr id="315" name="Text Box 26"/>
          <p:cNvSpPr/>
          <p:nvPr/>
        </p:nvSpPr>
        <p:spPr>
          <a:xfrm>
            <a:off x="3851280" y="3000240"/>
            <a:ext cx="2305080" cy="6494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Lücken im Erleben, Denken,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0000"/>
                </a:solidFill>
                <a:latin typeface="Arial"/>
              </a:rPr>
              <a:t>Fühlen, Wahrnehmen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16" name="Textfeld 2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17" name="Traumatisierung.m4a" descr=""/>
          <p:cNvPicPr/>
          <p:nvPr/>
        </p:nvPicPr>
        <p:blipFill>
          <a:blip r:embed="rId6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AAE3-0D23-40E8-80CB-C3D737E06982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2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Traumatisierung und Dissoziatio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85800" y="1483920"/>
            <a:ext cx="4030560" cy="1513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   </a:t>
            </a: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400" spc="-1" strike="noStrike">
                <a:solidFill>
                  <a:srgbClr val="565656"/>
                </a:solidFill>
                <a:latin typeface="Arial"/>
              </a:rPr>
              <a:t>= Eingefrorene Aspekte, Ereignisse aus der Vergangenheit, die nicht verarbeitet, integriert sind und keinen „Platz gefunden“ haben; nicht kontrollierbar, keine Abstraktions- und Metaebene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3" name="Rectangle 6"/>
          <p:cNvSpPr/>
          <p:nvPr/>
        </p:nvSpPr>
        <p:spPr>
          <a:xfrm>
            <a:off x="1312920" y="1746360"/>
            <a:ext cx="28728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1042920" y="3860640"/>
            <a:ext cx="216000" cy="7923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1332000" y="4270320"/>
            <a:ext cx="215640" cy="389160"/>
          </a:xfrm>
          <a:prstGeom prst="rect">
            <a:avLst/>
          </a:prstGeom>
          <a:solidFill>
            <a:srgbClr val="f0eff1"/>
          </a:solidFill>
          <a:ln w="9360">
            <a:solidFill>
              <a:srgbClr val="5d5d5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1258920" y="4437000"/>
            <a:ext cx="71280" cy="2174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7" name="Line 10"/>
          <p:cNvSpPr/>
          <p:nvPr/>
        </p:nvSpPr>
        <p:spPr>
          <a:xfrm>
            <a:off x="1031760" y="4724280"/>
            <a:ext cx="7705800" cy="0"/>
          </a:xfrm>
          <a:prstGeom prst="line">
            <a:avLst/>
          </a:prstGeom>
          <a:ln w="7632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1784520" y="3189240"/>
            <a:ext cx="215640" cy="216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29" name="Rectangle 12"/>
          <p:cNvSpPr/>
          <p:nvPr/>
        </p:nvSpPr>
        <p:spPr>
          <a:xfrm>
            <a:off x="2195640" y="3075120"/>
            <a:ext cx="14436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0" name="Rectangle 13"/>
          <p:cNvSpPr/>
          <p:nvPr/>
        </p:nvSpPr>
        <p:spPr>
          <a:xfrm>
            <a:off x="2233440" y="3424320"/>
            <a:ext cx="216000" cy="215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1" name="Rectangle 14"/>
          <p:cNvSpPr/>
          <p:nvPr/>
        </p:nvSpPr>
        <p:spPr>
          <a:xfrm>
            <a:off x="2008080" y="3525840"/>
            <a:ext cx="7164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2" name="Line 15"/>
          <p:cNvSpPr/>
          <p:nvPr/>
        </p:nvSpPr>
        <p:spPr>
          <a:xfrm>
            <a:off x="1547640" y="2997360"/>
            <a:ext cx="100836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 flipV="1">
            <a:off x="1547640" y="2997000"/>
            <a:ext cx="0" cy="71892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4" name="Line 17"/>
          <p:cNvSpPr/>
          <p:nvPr/>
        </p:nvSpPr>
        <p:spPr>
          <a:xfrm>
            <a:off x="2556000" y="2997360"/>
            <a:ext cx="0" cy="244764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5" name="Line 18"/>
          <p:cNvSpPr/>
          <p:nvPr/>
        </p:nvSpPr>
        <p:spPr>
          <a:xfrm flipH="1">
            <a:off x="1547280" y="3716280"/>
            <a:ext cx="100836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6" name="Line 19"/>
          <p:cNvSpPr/>
          <p:nvPr/>
        </p:nvSpPr>
        <p:spPr>
          <a:xfrm>
            <a:off x="2556000" y="5445000"/>
            <a:ext cx="3240000" cy="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 flipV="1">
            <a:off x="5796000" y="3429000"/>
            <a:ext cx="0" cy="2016000"/>
          </a:xfrm>
          <a:prstGeom prst="line">
            <a:avLst/>
          </a:prstGeom>
          <a:ln w="9360">
            <a:solidFill>
              <a:srgbClr val="5656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5691240" y="3224160"/>
            <a:ext cx="216000" cy="144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9" name="Line 22"/>
          <p:cNvSpPr/>
          <p:nvPr/>
        </p:nvSpPr>
        <p:spPr>
          <a:xfrm>
            <a:off x="5796000" y="2492280"/>
            <a:ext cx="0" cy="647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987640" y="3471840"/>
            <a:ext cx="2016000" cy="1057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Keine Differenzierung von Damals-Heute möglich 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„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Es ist Jetzt“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5219640" y="4199040"/>
            <a:ext cx="504720" cy="473040"/>
          </a:xfrm>
          <a:prstGeom prst="rect">
            <a:avLst/>
          </a:prstGeom>
          <a:solidFill>
            <a:srgbClr val="006cb0"/>
          </a:solidFill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8089920" y="492444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Zukunf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3" name="Text Box 26"/>
          <p:cNvSpPr/>
          <p:nvPr/>
        </p:nvSpPr>
        <p:spPr>
          <a:xfrm>
            <a:off x="468360" y="49514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Vergangenhei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4" name="Text Box 27"/>
          <p:cNvSpPr/>
          <p:nvPr/>
        </p:nvSpPr>
        <p:spPr>
          <a:xfrm>
            <a:off x="4683240" y="49118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6cb0"/>
                </a:solidFill>
                <a:latin typeface="Arial"/>
              </a:rPr>
              <a:t>Gegenwart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5" name="Text Box 28"/>
          <p:cNvSpPr/>
          <p:nvPr/>
        </p:nvSpPr>
        <p:spPr>
          <a:xfrm>
            <a:off x="539640" y="5384880"/>
            <a:ext cx="1297080" cy="45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6cb0"/>
                </a:solidFill>
                <a:latin typeface="Arial"/>
              </a:rPr>
              <a:t>Erlebnisse, die verarbeitet sind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46" name="Picture 29" descr="ImageShack, share photos, pictures, free image hosting, free video hosting, image hosting, video hosting, photo image hosting site, video hosting site"/>
          <p:cNvPicPr/>
          <p:nvPr/>
        </p:nvPicPr>
        <p:blipFill>
          <a:blip r:embed="rId2">
            <a:grayscl/>
          </a:blip>
          <a:stretch/>
        </p:blipFill>
        <p:spPr>
          <a:xfrm>
            <a:off x="5256360" y="3564000"/>
            <a:ext cx="431640" cy="647640"/>
          </a:xfrm>
          <a:prstGeom prst="rect">
            <a:avLst/>
          </a:prstGeom>
          <a:ln w="0">
            <a:noFill/>
          </a:ln>
        </p:spPr>
      </p:pic>
      <p:sp>
        <p:nvSpPr>
          <p:cNvPr id="347" name="Text Box 30"/>
          <p:cNvSpPr/>
          <p:nvPr/>
        </p:nvSpPr>
        <p:spPr>
          <a:xfrm>
            <a:off x="6361200" y="2997360"/>
            <a:ext cx="2590560" cy="127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Hinweisreiz „stülpt“ sich über die eigene Existenz, Körper reagiert wie beim traumatischen Ereignis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6cb0"/>
                </a:solidFill>
                <a:latin typeface="Arial"/>
              </a:rPr>
              <a:t>Intrusionen = Erinnerungen</a:t>
            </a: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48" name="Textfeld 33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49" name="Folgen von Dissoziation.m4a" descr=""/>
          <p:cNvPicPr/>
          <p:nvPr/>
        </p:nvPicPr>
        <p:blipFill>
          <a:blip r:embed="rId3"/>
          <a:stretch/>
        </p:blipFill>
        <p:spPr>
          <a:xfrm>
            <a:off x="8553600" y="2357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50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In Anlehnung an Hantke, L., www.institut-berlin.de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51" name="Gerade Verbindung 34"/>
          <p:cNvSpPr/>
          <p:nvPr/>
        </p:nvSpPr>
        <p:spPr>
          <a:xfrm flipH="1">
            <a:off x="7429320" y="4000680"/>
            <a:ext cx="214200" cy="214200"/>
          </a:xfrm>
          <a:prstGeom prst="line">
            <a:avLst/>
          </a:prstGeom>
          <a:ln w="19080">
            <a:solidFill>
              <a:srgbClr val="006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5335-0E0A-431A-B964-55D9259CC13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5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Überreg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D42A2-2C26-4461-BC6B-E0AC2E9D048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5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Dissoziatio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57160" y="182052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utz vor Überflutung von nicht zu verarbeitenden Informatio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Normale“ Reaktion auf ein „unnormales“ Ereigni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leben kann nicht mit sonstigen Erfahrungen und dem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empfinden verknüpft wer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usammenhangslos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arbeitung außerhalb des Bewusstsein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Speicherung im episodischen Gedächtnis, sondern i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em isolierten, unverbundenen Speiche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1" name="Text Box 31"/>
          <p:cNvSpPr/>
          <p:nvPr/>
        </p:nvSpPr>
        <p:spPr>
          <a:xfrm>
            <a:off x="6081840" y="6072120"/>
            <a:ext cx="2776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Hantke, L. (2006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7F12-9A46-4260-88B8-19E5A2F5357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6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544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können Folgen von Erfahrungen sexualisierter Gewalt sei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65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73C5-FAB1-4191-A899-593C5BC8F48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6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68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Folgen sexualisierte Gewalt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A59CF-02A1-4517-8AE7-7B646EB2273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7714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785880" y="1989000"/>
            <a:ext cx="7572240" cy="38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ist sexualisierte Gewalt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 häufig kommt sexualisierte Gewalt vor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ist ein Trauma und was passiert in einer traumatischen Situation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können Folgen von Erfahrungen sexualisierter Gewalt sein?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sind traumaspezifische Diagnosen?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7" name="Picture 4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18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7342-5030-474E-9246-EE29547D571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7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Mögliche Langzeitfolg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00280" y="189216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on Gewalt betroffene Frauen berichteten im Rahmen einer aktuellen Studie von zahlreichen unterschiedlichen Folgen des Traumas: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über 50% der Frauen berichteten über einen Verlust des Selbstvertrauens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40% schilderten Angstzustände, Beziehungsschwierigkeiten oder Schlafstörunge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35% der Befragten berichten von Depressionen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Weitere mögliche Folgen können z.B. Somatisierungen, Sexuelle 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Störungen, Störungen interpersonaler Beziehungen oder auch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substanzgebundenes Suchtverhalten sei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5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European Union Agency For Fundamental Rights (2014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24E88-DAEA-47AB-BFED-C430368C3AB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7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Auswirkungen auf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57160" y="18205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hrnehm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ziehungsgestaltung / Intimitä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sbildung von Schutzfaktoren und Ressourcen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xualität (z.B. Kopplung an Gewalt oder Kontrollverlust)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bhängigkeit / Autonomi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ert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vertrauen / Selbstwirksamkeitserwart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wertgefühl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icherheitsempfin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trau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C14CC-139B-4CD3-BF05-B50EFEDEEF4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8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871560" y="18568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rkt sich auf Gesundheit, Gesundheitshandel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d Gesundheitschancen au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at kurz-, mittel- oder langfristige Fol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icht von körperlichen Verletzungen, (psycho-)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omatischen Beschwerden, psychischen Stö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d Krankheiten bis hin zu tödlichen Verletzungen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st somit ein wichtiges Thema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   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m Gesundheitswesen!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5" name="AutoShape 5"/>
          <p:cNvSpPr/>
          <p:nvPr/>
        </p:nvSpPr>
        <p:spPr>
          <a:xfrm>
            <a:off x="1547640" y="4714920"/>
            <a:ext cx="865440" cy="360360"/>
          </a:xfrm>
          <a:prstGeom prst="rightArrow">
            <a:avLst>
              <a:gd name="adj1" fmla="val 50000"/>
              <a:gd name="adj2" fmla="val 60040"/>
            </a:avLst>
          </a:prstGeom>
          <a:solidFill>
            <a:srgbClr val="004977"/>
          </a:solidFill>
          <a:ln w="9360">
            <a:solidFill>
              <a:srgbClr val="ffa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6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B9544-5B66-4938-89D4-ACF1E670AD9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8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Relevanz für das Gesundheitswesen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857160" y="1856880"/>
            <a:ext cx="7772400" cy="38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rofessionellen des Gesundheitswesens kommt ein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lüsselrolle bei der Prävention und Intervention zu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ttel- und langfristige Folgen von sex. Gewalt hängen auch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avon ab, ob eine ursachenadäquate Behandlung erfolgt un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e evtl. Gewaltproblematik „mitgedacht“ wir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fahr der Unter-, Fehl- und Überversorgung und eine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Chronifizierung der Beschwerden durch primär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ymptomorientierte Behandlung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91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D507-5B68-4440-82CA-FB6ADC59B2C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9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53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sind traumaspezifische Diagnosen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5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5223-C95E-4A78-A32C-88D27B73FB6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39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Posttraumatische Belastungsstö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685800" y="184464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11430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inzige Diagnose, die eine Ursachenzuschreibung enthä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11430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2" marL="1143000" indent="-1143000">
              <a:lnSpc>
                <a:spcPct val="125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linische Merkmale sind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iedererleben des Trauma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starren der Reaktionsfähigkei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bkapselung von der äußeren We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fühl von Schul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4" marL="981000" indent="-3556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meiden der an das Trauma erinnernde Situatio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3" marL="1600200" indent="-22860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00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D21A-00AA-4BC9-9CAF-25A0A3D9EDC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0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Erleben bei komplexer posttraumatischer Belastungsstörung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71560" y="2313000"/>
            <a:ext cx="77724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von Gefühlszuständen und Impuls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issoziative Stö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der Selbstwahrnehm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chuld, Scham, unzureichende Selbstfürsorg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örungen in der Beziehung zu ander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omatis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änderung von Lebenseinstell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05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Foliennummernplatzhalter 5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5D62-62BB-4CA7-9BE8-A8699A3A2D6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407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9" descr="http://3.bp.blogspot.com/-LzaQaH0hEjc/UFMRTT2cswI/AAAAAAAAAfg/Plxu1INnLMo/s400/Radio.jpg"/>
          <p:cNvPicPr/>
          <p:nvPr/>
        </p:nvPicPr>
        <p:blipFill>
          <a:blip r:embed="rId2"/>
          <a:stretch/>
        </p:blipFill>
        <p:spPr>
          <a:xfrm>
            <a:off x="2652840" y="2000160"/>
            <a:ext cx="3809880" cy="2524320"/>
          </a:xfrm>
          <a:prstGeom prst="rect">
            <a:avLst/>
          </a:prstGeom>
          <a:ln w="0">
            <a:noFill/>
          </a:ln>
        </p:spPr>
      </p:pic>
      <p:sp>
        <p:nvSpPr>
          <p:cNvPr id="409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0" name="Textfeld 7"/>
          <p:cNvSpPr/>
          <p:nvPr/>
        </p:nvSpPr>
        <p:spPr>
          <a:xfrm>
            <a:off x="1428840" y="928800"/>
            <a:ext cx="61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s wühlt zuerst auf, aber hinterher wird’s ein bisschen leichter.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1" name="Textfeld 8"/>
          <p:cNvSpPr/>
          <p:nvPr/>
        </p:nvSpPr>
        <p:spPr>
          <a:xfrm>
            <a:off x="1357200" y="5429160"/>
            <a:ext cx="62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565555"/>
                </a:solidFill>
                <a:uFillTx/>
                <a:latin typeface="Arial"/>
                <a:hlinkClick r:id="rId3"/>
              </a:rPr>
              <a:t>www.alterundtrauma.de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685800" y="185724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Amann, G./Wipplinger, R. (Hg.) (2005): Sexueller Missbrauch: Ein Überblick zu Forschung, Beratung und Therapie. Ein Handbuch. 3. Aufl. DGVT Deutsche Gesellschaft f. Verhaltenstherapi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ange, D./Körner, W. (Hg.) (2002): Handwörterbuch Sexueller Missbrauch. Hogref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European Union Agency For Fundamental Rights (2014): Gewalt gegen Frauen: eine EU-weite Erhebung. Ergebnisse auf einen Blick. Verfügbar unter: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hlinkClick r:id="rId1"/>
              </a:rPr>
              <a:t>http://fra.europa.eu/de/publication/2014/gewalt-frauen-erhebung-ergebnisse-auf-einen-blick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Frick-Baer, Gabriele (2013): Trauma – Am schlimmsten ist das Alleinsein danach. Neukirchen-Vluyn: Semnos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Gebhardt, Miriam (2015): Als die Soldaten kamen. Die Vergewaltigungen deutscher Frauen am Ende des Zweiten Weltkriegs. München: DVA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antke, L./Görges, H.-J. (2012): Handbuch Traumakompetenz. Basiswissen für Therapie, Beratung und Pädagogik. Paderborn: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  <a:ea typeface="Arial"/>
              </a:rPr>
              <a:t>Hantke, L., (2006): Vom Umgang mit Dissiziationen und Körpererinnerungen. Verfügbar unter 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ea typeface="Arial"/>
                <a:hlinkClick r:id="rId2"/>
              </a:rPr>
              <a:t>www.institut-berlin.de</a:t>
            </a:r>
            <a:r>
              <a:rPr b="0" lang="de-DE" sz="1100" spc="-1" strike="noStrike">
                <a:solidFill>
                  <a:srgbClr val="565656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ellmann, D. F. (2014): Repräsentativbefragung zu Viktimisierungserfahrungen in Deutschland (KFN-Forschungsbericht; Nr.: 122). Hannover: KF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erman, J. (2006): Die Narben der Gewalt. Traumatische Erfahrungen verstehen und überwinden. 3. Aufl. Junfermann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uber, M. (2009): Trauma und die Folgen. Trauma und Traumabehandlung, Teil 1. 4. Aufl.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Körner, W./Lenz, A. (Hg.) (2004): Sexueller Missbrauch: Band 1: Grundlagen und Konzepte. Hogrefe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ander, H./ Johr, B. (Hg.) (2008): BeFreier und Befreite. Krieg, Vergewaltigung, Kinder. 3. Aufl. Fischer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tadler, L.; Bieneck, S. &amp; Pfeiffer, C.(2012): Repräsentativbefragung Sexueller Missbrauch 2011 (KFN-Forschungsbericht; Nr.: 118). Hannover: KFN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60560" indent="-160560">
              <a:spcBef>
                <a:spcPts val="275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27F4-16AC-4DFF-BAB5-F814839BF8B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4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5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F2F0-8B7E-4146-9ACA-D1570F5C72C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20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as ist sexualisierte Gewalt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2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F2D0-24E3-43A3-824D-AB81E1C3882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2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6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ist das sexualisierte Gewalt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as ist „Sexualisierte Gewalt“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57120" y="1824120"/>
            <a:ext cx="84297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eine universelle, allgemeingültige Definitio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Oberbegriff für eine Vielzahl sexualisierter Grenzüberschreit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waltaspekte, die ihren Ursprung nicht in der Sexualität haben, jedoch mittels sexueller Handlungen zum Ausdruck gebracht werd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schiedliche Definitionen, Bewertungen und Ebenen: Juristisch-strafrechtliche, Historische, Kulturelle, Sittenmoralische, Psychologische, u.a.m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125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31" name="Textfeld 4"/>
          <p:cNvSpPr/>
          <p:nvPr/>
        </p:nvSpPr>
        <p:spPr>
          <a:xfrm>
            <a:off x="5286240" y="0"/>
            <a:ext cx="3857760" cy="67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4214880" y="6572160"/>
            <a:ext cx="314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Laura Braune – Wildwasser Bielefeld e.V.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3" name="Textfeld 6"/>
          <p:cNvSpPr/>
          <p:nvPr/>
        </p:nvSpPr>
        <p:spPr>
          <a:xfrm>
            <a:off x="1214280" y="65818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Franziskus 08.April 2015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4" name="Picture 10" descr="C:\Users\Wilwasser\AppData\Local\Microsoft\Windows\Temporary Internet Files\Content.IE5\PQR9V60R\wpid-Photo-19042012-1635[1].jpg"/>
          <p:cNvPicPr/>
          <p:nvPr/>
        </p:nvPicPr>
        <p:blipFill>
          <a:blip r:embed="rId2"/>
          <a:stretch/>
        </p:blipFill>
        <p:spPr>
          <a:xfrm>
            <a:off x="7072200" y="5214960"/>
            <a:ext cx="157176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273A-09B9-41F6-B98E-3D4B3E5685B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73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Sexualisierte Gewalt beinhaltet …</a:t>
            </a:r>
            <a:br>
              <a:rPr sz="3600"/>
            </a:b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57120" y="189216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sexuelle Handlung an oder vor einem Kind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egen den Willen oder ohne wissentliche Zustimmung aufgrund der Entwicklung des Opfers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mmer überlegt, nie zufälli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ssbrauch ist immer Gewal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acht- und Autoritätsmissbrauch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Verantwortung liegt immer beim Erwachse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Übergriff auf die körperliche und seelische Integritä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9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0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Amann, G.; Wipplinger, R.(1998); Bange, D. (1995), Körner, W.; Lenz, A. (2004) 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87268-9C10-42D2-91DB-23116662B69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43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Erfahrungen im Arbeitskontext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A644-A3ED-46F2-85FD-2B8C1A523C3F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54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19f"/>
                </a:solidFill>
                <a:latin typeface="Arial"/>
              </a:rPr>
              <a:t>Wie häufig kommt sexualisierte Gewalt vor?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48" name="Textfeld 6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2T13:23:09Z</dcterms:modified>
  <cp:revision>110</cp:revision>
  <dc:subject/>
  <dc:title>PowerPoint-Präsentation</dc:title>
</cp:coreProperties>
</file>